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56A-09AC-4129-8B07-F1555B3E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53F-8E09-4DB6-AACA-441EAA9B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CB5-E963-4FC7-A6B9-1F0CF64C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B5B-0F7E-46A7-BB96-079A34A6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1993-B318-444B-A49E-3B017B6E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C211-5475-4EEB-BC7F-8F12F984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3161-ADD9-44F7-8B3D-4B507443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5F2E-2726-43B6-A2E8-DBE6D412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D1F6-698D-4AB8-BFAE-7063460F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AE9E-65C9-4B6F-99E2-0DE37D8D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ED78-80D6-4DE3-951D-66D25F51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31D-9C4A-4A61-A1DC-E741298C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2EEB-6076-42FB-9763-ED6B163F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B86E-CC30-4FE8-86C0-69748BDC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FFB4-714C-4882-8CAA-FC839F24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178A-816A-41BF-9C3A-A9BCA588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3C3D-B5D5-4401-A0D1-F2459221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B5F-612E-42E6-8AF3-C02ADFF0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FD0-A8EB-4254-994D-B799E23C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A3C-FB59-4D0D-A564-0B52C15C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8CE-C29F-4256-8A03-767542C0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979-7D69-4849-A72B-4960670D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F23-A680-41D7-A826-29258BE6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7B1-EE33-40E2-BF59-F695B4A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4B37-55E4-4A77-B61D-73DAE50B0BA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42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43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8300f2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8300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8300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51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7ECD-2010-40D8-9286-FAE6880CEFA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89080" y="692280"/>
            <a:ext cx="6070680" cy="290664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04920" y="588960"/>
            <a:ext cx="661680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LI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84240" y="946080"/>
            <a:ext cx="59025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35560" y="963720"/>
            <a:ext cx="1440" cy="2260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080" y="3241800"/>
            <a:ext cx="8742240" cy="277164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Credi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8120" y="4195800"/>
            <a:ext cx="2857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8560" y="426420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63840" y="2017800"/>
            <a:ext cx="968400" cy="1376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64120" y="4006800"/>
            <a:ext cx="464328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abilities &amp;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Cr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cr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27600" y="4381560"/>
            <a:ext cx="3451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10240" y="4398840"/>
            <a:ext cx="0" cy="106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38800" y="2952720"/>
            <a:ext cx="271440" cy="851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30D-E2DC-4E51-A179-34E90D8F4A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458280"/>
            <a:ext cx="789336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June 10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Bought merchandise (venatian blinds) 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2800" spc="-1" strike="noStrike">
                <a:solidFill>
                  <a:srgbClr val="ffffff"/>
                </a:solidFill>
                <a:latin typeface="Times New Roman"/>
              </a:rPr>
              <a:t>for an upcoming sale; paid $8,000 cash.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9320" y="1992240"/>
            <a:ext cx="7785360" cy="376776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             Rule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expense account             Expense increase on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Debi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Purchases  is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         the deb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Purchases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increa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assest account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Assets decrease on the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Cred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Bank  is decreased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cred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Bank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160" y="2681280"/>
            <a:ext cx="734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2880" y="4125960"/>
            <a:ext cx="7194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52560" y="3463920"/>
            <a:ext cx="459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08800" y="3479760"/>
            <a:ext cx="510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22480" y="4687920"/>
            <a:ext cx="306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50080" y="475452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45E-129A-4A87-B201-1E7E0C235E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9560" y="476280"/>
            <a:ext cx="801864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une 18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payment of $5,000 was made to Strand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fice Equipment Co. in full payment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balance owing to it.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29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9320" y="1992240"/>
            <a:ext cx="7785360" cy="450432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             Rule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liability account             Liabilities decrease on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Debi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Accounts Payable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/                  the deb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Strands Office Equip.Co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Payable/Strands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is decreased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Office Equip.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assest account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Assets decrease on the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Cred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Bank  is decreased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cred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Bank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92400" y="342900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3720" y="3497400"/>
            <a:ext cx="59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22480" y="5095800"/>
            <a:ext cx="35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5214960"/>
            <a:ext cx="460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80920" y="4551480"/>
            <a:ext cx="727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7800" y="2646360"/>
            <a:ext cx="751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319-DC86-494D-8D6E-DDD76A5C4D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une 2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ash sales of merchandise for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nth, $5,500.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9320" y="1974600"/>
            <a:ext cx="7785360" cy="383112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Ru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                  Assets increase 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it: B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nk is in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the debit s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revenue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Revenues increase on the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les  is in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cred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7040" y="2595600"/>
            <a:ext cx="74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0160" y="4057560"/>
            <a:ext cx="743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05200" y="3276720"/>
            <a:ext cx="407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32440" y="3343320"/>
            <a:ext cx="52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75120" y="4754520"/>
            <a:ext cx="323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56440" y="482292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A2E-DCD1-46B9-AF0E-26E43945E1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une 3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sued a cheque to pay the Jun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lephone bill, $145.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9320" y="1974600"/>
            <a:ext cx="7785360" cy="339948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Ru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xpense account             Expenses  increase 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it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lephone Expens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the deb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leph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increased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ens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ts decrease on the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nk  is de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7040" y="2646360"/>
            <a:ext cx="736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00" y="4176720"/>
            <a:ext cx="721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1640" y="3395520"/>
            <a:ext cx="44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0840" y="3462480"/>
            <a:ext cx="476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7560" y="4856040"/>
            <a:ext cx="408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6520" y="4941720"/>
            <a:ext cx="57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F46-D779-49F5-8362-ADE13C26CD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3444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ven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ecreas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76640" y="947880"/>
            <a:ext cx="435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70480" y="963720"/>
            <a:ext cx="0" cy="146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2800" y="3343320"/>
            <a:ext cx="591840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creas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ecr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3080" y="3954600"/>
            <a:ext cx="418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37000" y="4008600"/>
            <a:ext cx="0" cy="1734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5C4-DA25-4747-A750-51B630F82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7760" y="187200"/>
            <a:ext cx="7086600" cy="9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Balance Sheet - Basic Rul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0320" y="1168200"/>
            <a:ext cx="8172360" cy="51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ount increases on the side of ori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ount decreases on the side opposite of the side of ori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t accounts increase on the debit side and decrease on the credit 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and Capital (or Equity) accounts increase on the credit side and decrease on the debit 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nue accounts increase on the credit side and decrease on the debit 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nse accounts increase on the debit side and decrease on the credit 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566-ED1F-442A-A492-F0FD22FF7F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7320" y="3009960"/>
            <a:ext cx="8864280" cy="318456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Analyzing a Transact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3960" y="1981080"/>
            <a:ext cx="8877240" cy="44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June 1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Tom Cartier invests $ 80,000 cash 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in his new busin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      Rule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Assets increase on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Debit:B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Bank is increased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the deb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The capital account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Owner’s equity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Credit:Cap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is increased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increases on the credit side.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CA" sz="2000" spc="-1" strike="noStrike">
                <a:solidFill>
                  <a:srgbClr val="ffffff"/>
                </a:solidFill>
                <a:latin typeface="Times New Roman"/>
              </a:rPr>
              <a:t>T.Car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640" y="3768840"/>
            <a:ext cx="829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5095800"/>
            <a:ext cx="828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584600"/>
            <a:ext cx="357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56160" y="4551480"/>
            <a:ext cx="57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25520" y="5742000"/>
            <a:ext cx="543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92600" y="5622840"/>
            <a:ext cx="663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B70-60D2-42A9-90A6-6A15FEDB1C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17360" y="44100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Analyzing a Transact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1160" y="1981080"/>
            <a:ext cx="8690040" cy="44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June 1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Tom Cartier invests $ 80,000 cash 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CA" sz="3200" spc="-1" strike="noStrike">
                <a:solidFill>
                  <a:srgbClr val="ffffff"/>
                </a:solidFill>
                <a:latin typeface="Times New Roman"/>
              </a:rPr>
              <a:t>in his new busin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re is the effect on the accounting equ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iabilitie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+  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$80,000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     0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+  $8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4640" y="3360600"/>
            <a:ext cx="812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C62-ABE1-4A9D-9870-43714EACF6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358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Analyzing a Transact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" y="3384720"/>
            <a:ext cx="8370720" cy="272628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Ru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Assets increase 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it: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 is in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the deb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apital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ts decrease on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Ban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Bank is in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red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4560" y="1830240"/>
            <a:ext cx="7569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une 3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nd was bought as a futu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ilding site. A cheque w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sued for $ 25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5297400"/>
            <a:ext cx="799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6680" y="4057560"/>
            <a:ext cx="799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83000" y="467028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61000" y="4619520"/>
            <a:ext cx="407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85960" y="5775480"/>
            <a:ext cx="33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6760" y="5724360"/>
            <a:ext cx="324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4EC-D186-4C15-BABB-F8F5D51CC5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01640" y="676440"/>
            <a:ext cx="7772400" cy="582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une 3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nd was bought as a futu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ilding site. A cheque w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sued for $ 25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 is the effect on the accounting equ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abilit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L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8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$8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-25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$25,000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55,000 + 25,000  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$8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91160" y="482292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9400" y="5894280"/>
            <a:ext cx="134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79680" y="5910120"/>
            <a:ext cx="122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57680" y="5894280"/>
            <a:ext cx="1122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47040" y="5894280"/>
            <a:ext cx="163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2880" y="4873680"/>
            <a:ext cx="16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473-503D-4AD9-B8E0-55CA10C120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0120" y="58752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une 7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structed a small building, $100,000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id $30,000 down and arranged for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$70,000, 15-year mortg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38400" y="2341440"/>
            <a:ext cx="64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1720" y="2041560"/>
            <a:ext cx="8371080" cy="419940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Ru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Assets increase 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it:Buil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ilding is in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the deb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ts decrease on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Ban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Bank is decreased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red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iability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abilities increase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Mortg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rtgage Payabl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the cred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yab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increa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4400" y="2749680"/>
            <a:ext cx="7448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4400" y="3803760"/>
            <a:ext cx="7483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360" y="496080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08160" y="3395520"/>
            <a:ext cx="32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395520"/>
            <a:ext cx="509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20960" y="4414680"/>
            <a:ext cx="306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00840" y="436392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52640" y="5554800"/>
            <a:ext cx="324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1760" y="555480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3AA-5D8C-4E99-8989-A27B30921E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7120" y="476280"/>
            <a:ext cx="768672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une 8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ought equipment for the stor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$5,000, from Strands Offic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quipment Co. on terms of net 10 days.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2612880"/>
            <a:ext cx="687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6040" y="2297160"/>
            <a:ext cx="8371080" cy="3894480"/>
          </a:xfrm>
          <a:prstGeom prst="rect">
            <a:avLst/>
          </a:prstGeom>
          <a:solidFill>
            <a:srgbClr val="d6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Ru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sset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Assets increase 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i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fice Equipment 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the debit sid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ffic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iability accou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abilities increase on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d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s Payable/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redit side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ounts Payabl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nds Office Equipm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ands Off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. is decrease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pment Co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7120" y="3021120"/>
            <a:ext cx="777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7120" y="4500720"/>
            <a:ext cx="785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08800" y="3684600"/>
            <a:ext cx="40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17640" y="3649680"/>
            <a:ext cx="341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35280" y="5146560"/>
            <a:ext cx="35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35480" y="5214960"/>
            <a:ext cx="560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Gorian Surlan; Source: Barker.B. Basic Bookkee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D46-65DB-4DCA-B569-73ADEF2060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8T16:59:42Z</dcterms:created>
  <dc:creator>Gorian Surlan</dc:creator>
  <dc:description/>
  <dc:language>en-US</dc:language>
  <cp:lastModifiedBy>Gorian Surlan</cp:lastModifiedBy>
  <dcterms:modified xsi:type="dcterms:W3CDTF">2003-06-04T20:23:34Z</dcterms:modified>
  <cp:revision>14</cp:revision>
  <dc:subject/>
  <dc:title>No Slide Title</dc:title>
</cp:coreProperties>
</file>